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dt" idx="4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 type="ftr" idx="4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6"/>
          <p:cNvSpPr>
            <a:spLocks noGrp="1"/>
          </p:cNvSpPr>
          <p:nvPr>
            <p:ph type="sldNum" idx="4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7F292-0F2A-4615-908B-5565492F3E8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жение админитсратив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900F5-EE28-430C-8527-B9B13D682ED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692E-3A65-4B4E-9AC8-63442224D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DD3D-4D76-4F4D-B964-16EF30C0D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158D508-4252-48CC-AF64-1DAC4BA76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05A2559-3F9C-4DA8-A468-9C46F2F4E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CB291CB-38C6-4145-807F-4E4BABCED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B1088C8-35DA-4850-8960-7502CC1D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7BA3C09-5051-4E2B-959F-06A390912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15E4C35-91F4-4860-B19D-B1D969481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F3E08F6-C23D-460B-B4BC-217DBB257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C100E5D-8AFF-4EE1-AF9C-CECD3AA44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45AC014-6090-4166-842F-4B55F994A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379D10-CB93-4370-BD5D-34F5AC90A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2F76-3BE4-46C0-AD76-8FBB66B03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026A2C-DD54-489B-8FAF-24FA37EAE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213BB7-F69D-4CCC-824D-EA4290DEB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66F2AF-6A73-4A0E-B880-F19D45649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D428C1-285F-46A0-9726-E0610F419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80DDEB-0016-40E6-AEE9-0A0728C0C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284F77-2898-4F8B-85D5-A7EC6CE78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576640-64E5-43FC-A099-3DDBA1AC6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4B26A4-98D4-4018-9CC1-C2991CB0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BE901A-E5D4-4867-AE94-2BE8FB3CF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1131E2-AE8E-4859-89C6-0DAE5B6A1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BA74-BEAA-4BE6-89B3-69C3DB858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109870-CE0F-408C-BFFC-A4F1D81B0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2C1F4A-7E89-4AE4-964D-E36B7C07E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82BAB2-4FFE-4850-B6E4-4C42ABD24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98D407-5FF7-4AFF-9F71-D1CB8C480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A408C1-36B6-4644-A113-29FFA4CB6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5A03BE-7E18-4EAB-A651-D211556C4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35CF3A-B3D2-481D-8833-8753CBC10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852647-CEA8-431D-B14A-F23B9D56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81C606-097A-4835-854E-722B9299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AFF52D-C8D3-4029-9E09-2AA64440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683D1-B4CB-4848-B255-3BCA98C93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416F02-42BD-4F61-B5C8-8366D8CA8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945100-0C18-42C8-9F67-7BC3F9281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BD47EB-BC1B-423C-AC91-4B7805BB8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CEED14-FC62-420B-8666-53FEBCED6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047491-0163-4E97-A7FD-B5AAC05F0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7973B8-C60E-423E-80FF-E002AE1F4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D7473F-8066-4E81-B277-D419CFC99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3C12A1-60F3-4ACA-86D7-08259931D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F01354-EBED-4F27-A8ED-7F65780F6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F84781-9F60-416C-9184-165B1F803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30793-948B-4E7C-8C98-E6DCC2B92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FC82EE-4E7A-4489-BD5E-1AF7C905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18590B-2EF8-4320-9143-0E926091D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EB3ABF-796A-494C-81D1-C97E75934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FDA7B4-D998-40FB-8C2D-4D15E0D5E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06FBE4-3077-4890-BDDF-A9E5D1CFF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F08444-7768-4CE5-B170-EEB323CD4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EC18E4-39CD-46DB-93D3-4B11B0D8C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7A6E18-D6B7-4AED-A776-491786048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9F1472-A084-4460-B757-BBF7A8305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EA31AB-7F81-4D83-B5E0-223CE2DE5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1C266-6AB1-4E57-AAAC-FFFB25DF9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E4ADDE-8C94-4584-87FB-F01FC56A2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5CC02C-1946-414E-9BC5-FB0E6F9D2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732185-512A-42E0-9D9C-4ACB22EA9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AF6C4B-ADB6-4442-9E20-1DB4C9F76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2C4BD7-8F47-4B94-946D-44E41E8A2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28B3E4-3080-4611-894E-17F16729C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6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7EB08C-3006-4224-AD78-D948072E1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FADF5F-2E0D-4974-BB13-4D9237399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F54023-D82A-4821-9DA2-AA9012F19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E5E9B8-B03C-4C9B-9245-570794BED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64DCE-77EE-40BC-8252-75066F9F1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4BDC4E-D260-4A46-A3AD-7051608BC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C3DDB4-687D-48A6-B9FF-6D67FBABA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776483-FCE0-4D2B-91CF-DED997E46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576163-00DC-49CE-8A79-F56C87C05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81A735-D5AF-414B-A277-9F0150C85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A11E75-A506-4141-855E-06C1CEE3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E949F2-025B-474D-868A-59EEE5BC3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21D629-5A8D-4A38-8D67-7BE3C79C4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6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7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720DA4-3969-43C2-8EDF-76E6C2A98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E064B2-4B84-46B8-8171-5C47AE589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6CF17-0D84-48B0-BC61-5CD3571A0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E8820F-C3BC-4730-9CAE-74CA9D858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CB0FED-41CD-48AD-BEC5-E0611FA69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7E0579-5CD9-47FF-9711-C0E21878D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8A0771-5552-4D28-A502-8612639B4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18A139-5B29-4AE8-AB79-EF4D43F58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2A05A9-3AF7-4267-BDB9-58207B2F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4052AA-A8DD-464A-BCAE-CC1D54855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DCFE2C-BB01-4A86-940C-D07184904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2E66C1-B248-4CFF-B585-70225FD9F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45180C-A146-4E3B-A10C-28D46D850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65F61-5865-48A4-AC07-E666CFCFA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86EA29-8D8A-4622-B992-37C8EFAAC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90994-025E-4648-AAE4-F13BFAF03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DB56-B66B-4CF4-83E0-1DECE9732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0C827-FE9D-49A3-9BE0-D06C72E16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27A09-FAEA-402A-AB5D-F0553EFF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7C6C0-B122-42D6-AC02-EB0AB1A69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4F277-5CF9-4D5E-BB60-E190647A0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C62EC-22A9-42B3-9921-9E76268A1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DE4F5-B719-41E5-9A92-197D60413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AA649-B6CE-4B0A-80FF-68ED3CC5F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DF590-4C27-427D-9FFA-C6873BD75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D813A-AB8D-4B3A-BC5D-2D01678D3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34631-B72C-4EDB-B9DE-F53C5A403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756B-60CF-42E7-8ACA-F3DB5E1D4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8DAB3-1EB5-4272-B990-67EEF0C3B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A910C-0A0E-4FA7-A926-8D6DEF4C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22E87-FF25-4075-BF6A-0296E119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71FE9-5461-4C40-A2E3-AD86CABC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DAC17-EDEC-45F5-B834-FB566BB9E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E8942-B895-4952-893A-90717A53E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F5485-EEA3-428E-A521-C96DE5DC1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2D0ED-1072-43F1-83C8-3638242AB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389D3-0AC5-4B61-A8C4-64343EAF5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7B046-4F09-4944-B5DA-A06534881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CA44-016A-430D-9EC3-01C45E296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4C4DA-5F58-4DBB-922B-5C0C9A5C1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39BDA-FD07-4B9D-AD8E-2387EB07F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C7CA7-0953-41AF-B177-3845E12EF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8771A-D7D8-4A22-B011-584341142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44ABC-7CB1-48FE-8F18-125948A7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FB883-5AE8-4E58-B827-00396FCD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44C66-2254-4C93-9C9F-D238E7A5E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F05DC-9151-4850-B00E-B8D67F144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B4552-6683-491F-8062-DD7FE09C8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BB6F01-E472-4F5C-919D-D17F56039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7F40-F178-4B2B-8BAA-45DF90FE5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A426CC-6456-43F1-80D0-B22B2AE7D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83AB30-AFF7-4B25-89C5-96914C6C4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7D11EB-091C-4856-AC91-3B9AEAEAD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5B9189-CE73-4B1D-BDF1-D3B441291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37E5C5-AC91-4005-86FE-1E635F9BD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94740D-5AAF-4617-AC57-732087FAF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F1495D-BD0E-4AE0-8131-FA6692EAA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3ABEB6-DBCF-48E1-8B72-7F1A16EE9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36E2A8-6875-4EA2-971F-447CA16DD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197635-31B9-4FDF-8798-F39DA20C7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FA5B-5626-41A1-B63C-2ED292686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550408-DECF-4C59-81B3-455F3936D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79A2CE-C7A8-4AC9-B47C-028602FC0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9E77DE-F3A5-4939-ADCA-C4D7AE55C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31744D-EBA1-4D7A-B291-E066A539E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83ECC0-3A8E-47C9-A417-C9BD7ECDC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10A5EA-35CD-40DD-AB95-374AA7F49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ADE547-C459-40C5-A952-513D6E79A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B1BB95-08D9-4F63-9A42-67CC461B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6FC3F1-8F20-4BC3-8AE6-B52DF15D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901F03-7531-45D7-BCAC-38012376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FCC9-E19A-4A3B-B3D9-25CE091C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36DF67-99C0-4FA0-8E96-8762CB6B7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6CEF11-9807-431D-B7DE-58E8286DD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E1E7C1-04E9-483F-9C21-271EE4E30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EC7BB8-E2E0-4834-A873-B1995486C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B7CD4E-26C8-4172-B946-311148A6D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E6CFE9-055F-4B13-9992-BF69AE0E7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81F4E8-BFD6-4286-B751-5C5CE76B5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6D7EC3-2B6D-491D-8745-FA0A5CFE2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B66602-DD20-4967-901A-3F445B9CE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E36DCA-69F2-470A-B5EB-068FB1E98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89C1-684F-4A24-8B76-84B8D005F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9BB868-CFD6-4C5D-B52E-048C4C97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6C0901-2283-4DDC-A496-3D9D47F8F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5A86D4-BE39-4A90-BB20-35081F079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0C9089-BB6B-44E9-8749-2139E97B8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D65647-980C-4CDA-A913-755AADA20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783C6B0-8C1E-4087-AA85-F0ECC1638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4D607F-237A-435F-864C-42EBB408D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B3BB66-5583-4B31-BBB2-61A3A830B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90829E8-589D-421B-8B3C-B4F6E7C27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89216F-35B8-447F-8A87-08C3F2E76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10EE-261C-452A-BC85-3BED0BDA1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74A999B-ED62-4922-97A0-733B58482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C45A931-95E7-4D46-9F72-973686EF4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33AE072-18D8-4140-AF99-7455BE0D0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0500573-2DDC-4B60-9025-724F241A4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74ED10C-447D-42BB-B7C9-EA41214AB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3164894-BD7F-46BB-9823-CB87D45BA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B5F2B5B-61B7-4D7A-8217-C0C882A0F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DC2CB2F-0B25-47D9-8E46-DFB4C8A11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E78B8A8-9C1D-46E9-8C19-A92ED9F51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C84A252-EF32-48B4-BA55-8A5EC094E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21.xml"/><Relationship Id="rId10" Type="http://schemas.openxmlformats.org/officeDocument/2006/relationships/slideLayout" Target="../slideLayouts/slideLayout122.xml"/><Relationship Id="rId11" Type="http://schemas.openxmlformats.org/officeDocument/2006/relationships/slideLayout" Target="../slideLayouts/slideLayout123.xml"/><Relationship Id="rId12" Type="http://schemas.openxmlformats.org/officeDocument/2006/relationships/slideLayout" Target="../slideLayouts/slideLayout124.xml"/><Relationship Id="rId13" Type="http://schemas.openxmlformats.org/officeDocument/2006/relationships/slideLayout" Target="../slideLayouts/slideLayout125.xml"/><Relationship Id="rId14" Type="http://schemas.openxmlformats.org/officeDocument/2006/relationships/slideLayout" Target="../slideLayouts/slideLayout126.xml"/><Relationship Id="rId15" Type="http://schemas.openxmlformats.org/officeDocument/2006/relationships/slideLayout" Target="../slideLayouts/slideLayout127.xml"/><Relationship Id="rId16" Type="http://schemas.openxmlformats.org/officeDocument/2006/relationships/slideLayout" Target="../slideLayouts/slideLayout128.xml"/><Relationship Id="rId17" Type="http://schemas.openxmlformats.org/officeDocument/2006/relationships/slideLayout" Target="../slideLayouts/slideLayout129.xml"/><Relationship Id="rId18" Type="http://schemas.openxmlformats.org/officeDocument/2006/relationships/slideLayout" Target="../slideLayouts/slideLayout130.xml"/><Relationship Id="rId19" Type="http://schemas.openxmlformats.org/officeDocument/2006/relationships/slideLayout" Target="../slideLayouts/slideLayout131.xml"/><Relationship Id="rId20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57.xml"/><Relationship Id="rId10" Type="http://schemas.openxmlformats.org/officeDocument/2006/relationships/slideLayout" Target="../slideLayouts/slideLayout158.xml"/><Relationship Id="rId11" Type="http://schemas.openxmlformats.org/officeDocument/2006/relationships/slideLayout" Target="../slideLayouts/slideLayout159.xml"/><Relationship Id="rId12" Type="http://schemas.openxmlformats.org/officeDocument/2006/relationships/slideLayout" Target="../slideLayouts/slideLayout160.xml"/><Relationship Id="rId13" Type="http://schemas.openxmlformats.org/officeDocument/2006/relationships/slideLayout" Target="../slideLayouts/slideLayout161.xml"/><Relationship Id="rId14" Type="http://schemas.openxmlformats.org/officeDocument/2006/relationships/slideLayout" Target="../slideLayouts/slideLayout162.xml"/><Relationship Id="rId15" Type="http://schemas.openxmlformats.org/officeDocument/2006/relationships/slideLayout" Target="../slideLayouts/slideLayout163.xml"/><Relationship Id="rId16" Type="http://schemas.openxmlformats.org/officeDocument/2006/relationships/slideLayout" Target="../slideLayouts/slideLayout164.xml"/><Relationship Id="rId17" Type="http://schemas.openxmlformats.org/officeDocument/2006/relationships/slideLayout" Target="../slideLayouts/slideLayout165.xml"/><Relationship Id="rId18" Type="http://schemas.openxmlformats.org/officeDocument/2006/relationships/slideLayout" Target="../slideLayouts/slideLayout166.xml"/><Relationship Id="rId19" Type="http://schemas.openxmlformats.org/officeDocument/2006/relationships/slideLayout" Target="../slideLayouts/slideLayout167.xml"/><Relationship Id="rId20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07BE8-46A7-4AD1-B8A0-B7B9E2571DB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454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456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457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459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460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461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28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29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0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DD101-F76D-4D1D-ADC3-D5AA64278E82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505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507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508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510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511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12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514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515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517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518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520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521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22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1FA79-3132-4F0B-AD3C-BEBA13A52481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9"/>
    <p:sldLayoutId id="2147483780" r:id="rId10"/>
    <p:sldLayoutId id="2147483781" r:id="rId11"/>
    <p:sldLayoutId id="2147483782" r:id="rId12"/>
    <p:sldLayoutId id="2147483783" r:id="rId13"/>
    <p:sldLayoutId id="2147483784" r:id="rId14"/>
    <p:sldLayoutId id="2147483785" r:id="rId15"/>
    <p:sldLayoutId id="2147483786" r:id="rId16"/>
    <p:sldLayoutId id="2147483787" r:id="rId17"/>
    <p:sldLayoutId id="2147483788" r:id="rId18"/>
    <p:sldLayoutId id="2147483789" r:id="rId19"/>
    <p:sldLayoutId id="2147483790" r:id="rId20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566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568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569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0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571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572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73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3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3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3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4100B-CA49-47C1-ADA0-182B8AD33252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6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617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619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620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1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622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623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624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5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 type="dt" idx="3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 type="ftr" idx="3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 type="sldNum" idx="3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3BD16-CDBF-4DAE-8900-9CCA26B818A2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7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668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9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670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671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2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673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674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675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6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677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678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9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680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681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2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683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684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685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6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 type="dt" idx="4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 type="ftr" idx="4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 type="sldNum" idx="4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120FB-6A9F-4701-B5CA-9C187F07C709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9"/>
    <p:sldLayoutId id="2147483819" r:id="rId10"/>
    <p:sldLayoutId id="2147483820" r:id="rId11"/>
    <p:sldLayoutId id="2147483821" r:id="rId12"/>
    <p:sldLayoutId id="2147483822" r:id="rId13"/>
    <p:sldLayoutId id="2147483823" r:id="rId14"/>
    <p:sldLayoutId id="2147483824" r:id="rId15"/>
    <p:sldLayoutId id="2147483825" r:id="rId16"/>
    <p:sldLayoutId id="2147483826" r:id="rId17"/>
    <p:sldLayoutId id="2147483827" r:id="rId18"/>
    <p:sldLayoutId id="2147483828" r:id="rId19"/>
    <p:sldLayoutId id="2147483829" r:id="rId20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8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729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0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731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732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3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734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735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736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7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4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4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4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8DE0E-6F37-4DE9-95E8-AFB92844F674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48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50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51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53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54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5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168E6-0405-4766-9365-4539AA974DB6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99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101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02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104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105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06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EEAF6-453F-49EA-ACA4-A0D3B1E51191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D5290-F719-4D1B-8B3B-F7868D04C3E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8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F0371-153C-4A88-9477-1D4E8A8D4CE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5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3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5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6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7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8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6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17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18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D5D72-B6DB-4AEE-9675-4EC25471CA1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1FBEF-2192-4893-9A13-D810CA352B8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1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sldNum" idx="2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06431-263A-4C1F-92CE-91322541B8F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ftr" idx="24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6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7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8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9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0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1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25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sldNum" idx="2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08C6C-8BB6-4314-AA13-445CD8E0282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ftr" idx="27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КОНВЕНЦИЯ О ПРАВАХ РЕБЕНКА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611280" y="1125360"/>
            <a:ext cx="813744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Статья 18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Государства – участники принимают все возможные усилия к тому, чтобы обеспечить признание принципа общей и одинаково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ответственности обоих родителе за воспитание и развитие ребенка. Родители или в соответствующих случаях опекуны несут основную ответственность за воспитание и развитие ребенка. Наилучшие интересы ребенка являются предметом их основной заботы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Статья 28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Государства – участники признают право ребенка на образование, и с целью постепенного достижения этого права на основе равных возможностей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Заголовок 1" descr=""/>
          <p:cNvPicPr/>
          <p:nvPr/>
        </p:nvPicPr>
        <p:blipFill>
          <a:blip r:embed="rId1"/>
          <a:stretch/>
        </p:blipFill>
        <p:spPr>
          <a:xfrm>
            <a:off x="438120" y="920880"/>
            <a:ext cx="8516880" cy="5394240"/>
          </a:xfrm>
          <a:prstGeom prst="rect">
            <a:avLst/>
          </a:prstGeom>
          <a:ln w="0">
            <a:noFill/>
          </a:ln>
        </p:spPr>
      </p:pic>
      <p:sp>
        <p:nvSpPr>
          <p:cNvPr id="805" name=""/>
          <p:cNvSpPr txBox="1"/>
          <p:nvPr/>
        </p:nvSpPr>
        <p:spPr>
          <a:xfrm>
            <a:off x="539280" y="404640"/>
            <a:ext cx="842508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Согласно Закону, Вы имеете право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6" name="Заголовок 1" descr=""/>
          <p:cNvPicPr/>
          <p:nvPr/>
        </p:nvPicPr>
        <p:blipFill>
          <a:blip r:embed="rId1"/>
          <a:stretch/>
        </p:blipFill>
        <p:spPr>
          <a:xfrm>
            <a:off x="725400" y="1231920"/>
            <a:ext cx="7954920" cy="4937040"/>
          </a:xfrm>
          <a:prstGeom prst="rect">
            <a:avLst/>
          </a:prstGeom>
          <a:ln w="0">
            <a:noFill/>
          </a:ln>
        </p:spPr>
      </p:pic>
      <p:sp>
        <p:nvSpPr>
          <p:cNvPr id="807" name=""/>
          <p:cNvSpPr txBox="1"/>
          <p:nvPr/>
        </p:nvSpPr>
        <p:spPr>
          <a:xfrm>
            <a:off x="1143000" y="731880"/>
            <a:ext cx="7461360" cy="6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ctr"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Согласно Закону Вы имеете право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КОНСТИТУЦИЯ РФ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т. 38 ч.2 Забота о детях, их воспитание – равное право и обязанность родителей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т.43.ч.4 Основное общее образование обязательно. Родители или лица, их заменяющие, обеспечивают получение детьми основного общего образования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СЕМЕЙНЫЙ КОДЕКС РФ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Статья 61 Равенство прав и обязанностей родителе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Родители имеют равные права и несу равные обязанности в отношении своих детей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Родительские права прекращаются  по достижению детьми возраста 18 лет, а также при вступлении несовершеннолетних в брак и в других установленных законом случаях приобретения детьми полной дееспособности до достижения ими совершеннолетия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РАВА И ОБЯЗАННОСТИ РОДИТЕЛЕЙ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Ст. 63 Права и обязанности родителей по воспитанию  и образованию детей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Родители имеют право и обязаны воспитывать свои детей. Они обязаны заботиться о здоровье, физическом, психическом духовном, нравственном развитии своих детей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Родители имеют преимущественное право в воспитании своих детей перед другими лицами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Родители  обеспечить  получение детьми основного общего образования и создать условия для получения ими среднего общего образования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Родители с учетом  мнения детей имеют право выбора образовательного учреждения и формы обучения детей до получения ими основного общего образования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РАВА ОБЯЗАННОСТИ РОДИТЕЛЕЙ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Статья 64 Права и обязанности родителе по защите прав и интересов детей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Защита прав и интересов детей возлагается на их родителей. Родители являются законными представителями детей и выступают в защиту их прав и интересов в отношениях с любыми  физическим и и юридическими лицами, в том числе в судах, без специальных полномочий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Статья 65. Осуществление родительских прав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Родительские права не могут осуществляться  в противоречии с интересами детей. Обеспечение интересов детей должно предметом  основной заботы родителей. При осуществлении родительских прав родители не должны причинять вред физическому и психическому здоровью детей. Способы воспитания детей должны исключать пренебрежительное, жестокое, грубое, унижающее человеческое достоинство отношение, оскорбление или эксплуатацию детей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ЕМЕЙНО – ПРАВОВАЯ ОТВЕТСТВЕННОСТЬ РОДИТЕЛЕЙ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Статья 69 Лишение родительских прав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Родители (один из них) могут быть лишены родительских прав если они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Уклоняются от выполнения родительских обязанностей, в том числе при злостном уклонении от уплаты алиментов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Злоупотребляют родительскими правами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Жестоко обращаются с детьми, в том числе применяют физическое и психическое насилие над ними, покушаются на половую неприкосновенность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овершили умышленное преступление против жизни и здоровья детей  или супруга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АДМИНИСТРАТИВНАЯ ОТВЕТСТВЕННОСТЬ РОДИТЕЛЕЙ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Статья 5.35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Неисполнение или ненадлежащее исполнение родителями или иными законными представителями несовершеннолетних обязанностей по  содержанию, воспитанию, обучению, защите прав и интересов несовершеннолетних – ведет предупреждение или наложение административного штрафа в размере от одного до пяти минимальных размеров оплаты труда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АДМИНИСТРАТИВНАЯ ОТВЕТСТВЕННОСТЬ РОДИТЕЛЕЙ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456840" y="1600200"/>
            <a:ext cx="771516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Статья 20.22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оявление в состоянии алкогольного опьянения несовершеннолетних, а равно распитие ими алкогольной и спиртосодержащей продукции, потребление ими наркотических средств или психотропных веществ в общественных местах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оявление в состоянии алкогольного опьянения в возрасте шестнадцати лет, а равно и распитие ими алкогольной и спиртосодержащей продукции, потребление наркотических средств на улицах, стадионах, скверах,в других общественных местах – влечет наложение административного штрафа на родителей или законных представителей несовершеннолетних в размере от трех до пяти минимальных окладов оплаты труда. Ответственность по данной статье за подростков до 16 лет лежит на родителях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ЗАКОН «ОБ ОБРАЗОВАНИИ В РОССИЙСКОЙ ФЕДЕРАЦИИ</a:t>
            </a: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»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Статья 44 Права, обязанности и ответственность в сфере образования родителей (законных представителей) несовершеннолетних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Родители(законные представители) обучающихся обязаны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обеспечить получение детьми общего образования (согласно закону общее образование является обязательным  до достижения ребенком возраст18 лет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облюдать Правила внутреннего распорядка организации, осуществляющей образовательную деятельность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Уважать честь и достоинство обучающихся и работников организации , осуществляющей образовательную деятельность (права Закон стр. 58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3T08:04:56Z</dcterms:created>
  <dc:creator>школа №5</dc:creator>
  <dc:description/>
  <dc:language>en-US</dc:language>
  <cp:lastModifiedBy>алиса</cp:lastModifiedBy>
  <dcterms:modified xsi:type="dcterms:W3CDTF">2016-11-02T05:43:01Z</dcterms:modified>
  <cp:revision>10</cp:revision>
  <dc:subject/>
  <dc:title>Конвенция о правах ребенка</dc:title>
</cp:coreProperties>
</file>