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D3B44-3FAC-4D07-9D23-ABAFAB07B6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ение админитсратив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863B-0BAD-4528-9C0B-6329D3C7E0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378C-1BF2-40A4-A208-73192596D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1DEF-90C1-4598-B7F2-7BA5832F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123A81-13D1-487A-9860-C75F38FF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6E9385-5CD0-4249-AA7E-615EBF41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09D220-E576-4825-B995-15278349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BF8706-C7D9-4B9F-BF55-A09DADB4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DDFB0B-55D3-4DBF-B443-503C9A4E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78E0B1-BF29-4509-B030-B31A290A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C76890-1AFC-426F-9A51-D13E78E6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E4E204-A4B0-49D6-B1E0-6102244FE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5E4CE0-8FBD-4E39-9E89-041C98B22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F3CA5D-F9E1-498D-A18D-13057A41D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34F4-297C-443A-923B-2D68BFEBF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26D68C-90E5-4131-AE89-DC927FD7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BEBA85-BFF9-4C12-8095-D6ACDFD3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E99948-33AD-4FB6-A10D-BC739454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122FAB-BAA9-4509-9D29-B4CC98D5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0458BE-E8C0-4A47-9582-1FE5D05E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6743D9-8FFA-4DB9-8ED9-DF1D74F2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45ABA3-5C5D-43E4-80D0-A72F1630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225D2D-D2FD-433C-8555-2B9610FD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11CF81-F5E2-4CC4-B723-EA5C9091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2D918D-136D-49F7-A92D-17CF6FE12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829A-7F79-47BC-8048-87AA61C3A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9B53BF-95FB-4FB0-9ACB-82B4F44B5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9126FE-6235-4630-A522-930249069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038594-1419-473F-A071-1B0E521D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4A8962-6CC8-4AB8-91B5-02E941F5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A8E93-4E50-4C0D-B5D6-4F299756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65FF08-EE2E-4F29-9C1A-F50BC596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0F766-313F-4929-BBA4-BC4249EA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3BC292-BC5D-4A55-8E85-88FF4661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C4015-ABA7-4EC9-9938-D6D14DB5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C8FA0D-0D7B-452E-814F-97448F1A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817C-3158-42BA-A74F-D9C30BF30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D56F83-1ED4-4231-80F0-0BB2C8A5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4D6576-C7B6-44C0-8599-CF324E64E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482F4-10A6-4E52-8C04-F889B9BB6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DB918F-8A0E-41B1-9F20-7A055BE56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F13330-BE48-41CC-A6DA-9230A06F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FA9024-0218-44D1-9D5E-3E3F8AF7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5C6004-FF20-47CF-8CC9-12DFF6C0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4136E6-DA97-416C-AFD6-61CFFD5E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F68A07-4115-4A90-9721-DB4DCB0E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D26F72-CDED-4954-8B47-292A18DF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33D1-EB92-4A92-AE68-80ABF93A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F118D6-F514-49DA-8626-4AC1A063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C4F934-D1D9-4A7B-B63A-76AEA44A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989E01-64F5-46C4-B764-2A1C975C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C8CFFE-BAB5-482F-951A-9DDF1D0F6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9DCB6F-9271-4FDC-83D2-28A8FFEA9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EC8281-B6AE-4B91-B710-1F92F3CFF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A2E069-79ED-4A36-B214-E913C6A3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8C0C72-3CED-40F1-9A46-C3C78C69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E9831D-17BE-4858-B71E-BEA3D050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6284A1-E7A7-46BB-BF70-CF7DE77E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7C18-C1E9-4BA4-B3BC-1BB40208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3C1D51-2DCA-4D2A-8336-3633E6D6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77034B-19B6-4027-908E-A842C3AF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E7C4AC-83F5-4ABF-A817-398D9FD2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2DA1B4-6728-43BA-819C-229C5A08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32035C-3BAF-4043-83B6-FBD3CB81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12BCB7-0FA3-4E70-9DC0-96C2E32DC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CF21CC-9E8E-4F63-A40E-3B742F1A3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2BFBEF-53D8-41FF-9948-E3E260530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614F3B-3C71-4E2D-961B-E1E5766A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6ECE9E-42A5-40C3-83D8-15FB804E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FCF7-7401-4610-9F56-58E3C8F7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9608C6-1426-4699-ADAB-C988AF03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54D10C-2355-450F-9035-0AFA3B26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CA8E0C-2A41-47AA-807E-8AEA267B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3699A7-A108-4D6D-AA5D-C2720648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74FEBC-3F13-4896-84CA-BFAF36FC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E0CF96-6EE6-47CB-8E65-1A2A1CB1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34FED4-2621-4670-B913-473E2BF1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D42CCD-F174-4E9B-98AB-1667B2967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738721-EE52-4FD8-940F-ACE81EC97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DCC636-9276-42DC-B1F2-91B627F52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FB85-40B3-4A4B-86FE-7A53A818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80D981-5A71-4275-9B02-E96B431A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7575FC-58F2-44BE-8223-A8BCACAA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007B67-9CFB-49BC-8D41-78C9DFD6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79A884-B376-40B1-A72F-B2926859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D3F6A1-7F2C-44AA-A832-018510B6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3EB916-5D74-4B0C-A3B6-7D03A7BC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244052-6F6D-4139-9BCB-23EB3880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C369F7-0E1E-4FF1-B8CE-CF17667F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0007FF-E0A2-4833-9D5C-1908F9EE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6E0C14-D0A4-4321-92D7-1CFE9F595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CE8F8-B860-4A30-A76B-C7245DEC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413A55-86E7-4493-9F7C-A7C88D751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E8E3-07C1-4B3A-AE2F-25BE20B7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FD88-AFD7-4681-9CCD-64FB9350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CCD6-6BAE-4B6C-B2A7-096FEEAB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84CC-5FC9-4296-A75F-84944856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D1B6-E2B3-4D44-BB84-ABC58B49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897F-D4C3-445E-A73A-EACBCFC2F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BDCB-B82F-4D32-82F3-435827698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C6FD1-160D-4590-8461-B3C87FA22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E31F7-3C18-4109-AEFB-CE9D7201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25A4B-B71F-47CB-841A-CA4DBF9C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EC5B3-415F-451B-A954-D6AC88A3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DEF88-5445-44DC-9764-F841554D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6357-6F2B-491F-BDD4-459AE323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76E10-765C-4D48-9A3A-91FA19B5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4C60F-6E1B-48EC-BB59-8D49CD02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9A93D-6E96-4B9D-8DF9-EDB9E235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E08EF-116F-4927-8EDD-617809CC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48F28-5096-48A6-8FC1-1C2B734F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D3305-8855-45C5-BE67-A630A2503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D47F9-E392-446F-BB21-9FC2E0AF1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D3690-0012-461E-8A3B-F254D1498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FEB1E-D36D-42A5-95EA-A9400F64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AF243-9B34-4CE7-8DC7-489F4D9B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44FD-7F28-4EC5-9AFE-19E6E403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BF6DD-A04B-4C90-AB16-CBC882C6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6E806-A74A-48AF-845B-E69A2BF2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1444D-30B8-406E-81AF-7D42EED6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D154E-191B-45C8-80F7-5050E368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33661-5C02-495E-9CA6-3C3DD590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F43EA-2D79-4ADE-A649-4828AD69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2B68A-3541-42A4-A25C-F1110E68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1E103-C3A1-4604-AC0B-283295356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99AE9-77BD-48C7-9CB1-E086B6C6B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1EC93B-C086-4FCC-9252-6979A5681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70C2-AD28-4A8D-93CD-39ABA02A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DC19D6-DCEE-4D2B-BB47-53932BA2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D42CC3-5E57-4118-8152-CB72ECAD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4FBB34-4C0B-488B-A84E-A3ECCCCE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DBFA82-CF6C-4A23-84FE-AD8B4266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9388FE-CE96-42DD-8F4F-4A3AF776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6CAA92-9CB3-4CC3-BBE7-44AA22B4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591B9C-E61A-4F84-9030-54B1837D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0AD3BC-4423-4A9B-BA1C-23155CFB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085049-3D06-4E53-90F7-40135993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8F504E-509C-4265-AFA4-E70002AB4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959B-6713-42DC-8A33-CE260490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E05470-C686-4936-A414-7ADD08B34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52231-08C6-409C-BFCA-F4798E529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E8FAC-C923-4513-B7B3-BBE32B73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DE305-DFA7-4EF6-B4EE-FA474767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A3A93-61F9-4A81-9D01-69CBE18B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05A3F-4327-45AE-A042-BDA0B130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05BBF-88A6-4005-9405-7755BD3F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BA3C3-555E-45D5-B755-47BB87E3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C4059-68BD-40A2-B77B-8A01FAF3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146AB-6561-4C36-BD21-9DAA862C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29C0-3146-4B7C-8A68-46DD2912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79979-952D-430E-B8FB-8A0528B5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47DA1-F56A-4201-BFB4-9E959DC83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33531-CF65-4D6E-82F3-091F45908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725A95-E632-4B21-BA23-F8B6F8684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E87871-7DE5-439A-A740-E340A878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5C2E97-F08D-4FB4-9F5E-EDE24666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18E70E-373E-457E-9B6F-C23BB8A4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2290E4-A6C3-402D-83DF-324E8821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28DD12-BB1E-4B9C-9B69-1D751E58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38B173-CEEF-4A65-B2DB-8A845476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6AC5-82EC-47F6-831F-350F6810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18738D-9C1C-4BFC-BD7C-6A7A691B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2F5236-9D32-4E0C-96DE-61A3CE99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72448C-011A-4F00-A0A4-294959D3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9838CE-BBDD-4407-8BB2-5D05EABE1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D8BF86-CC5E-4944-89BC-06BEBE6CF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E07B34-2F49-4C73-90A2-0F5A280C8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ACCAED-E788-4C7A-8CF5-373B4D0B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761FA4-C32E-497F-B0A2-CF645FCB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089D11-7A63-4D1A-A82F-D533CDE9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991C58-1567-4192-918C-7B5E4EFD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9120-FEE1-44DF-8B98-C288A012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9EC8AC-B27B-44C8-BEC1-B747919E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D2D2FE-CA28-4A94-94A6-FAC24093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A39228-AFDE-47AF-BE2E-36D5499F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CA24EC-ADD9-49B5-9BA3-D5345717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613273-7D58-44CE-8EEF-AC914ABF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4EF334-F78A-4368-AD51-6EC933E5C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9D0D28-E191-48FC-BEB8-37A0DE849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8C727D-59B7-4E9C-89F3-07C897F97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83EA5C-7948-473B-8B52-221B61A3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2F3409-0BD7-4291-8BC5-6232200F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21.xml"/><Relationship Id="rId10" Type="http://schemas.openxmlformats.org/officeDocument/2006/relationships/slideLayout" Target="../slideLayouts/slideLayout122.xml"/><Relationship Id="rId11" Type="http://schemas.openxmlformats.org/officeDocument/2006/relationships/slideLayout" Target="../slideLayouts/slideLayout123.xml"/><Relationship Id="rId12" Type="http://schemas.openxmlformats.org/officeDocument/2006/relationships/slideLayout" Target="../slideLayouts/slideLayout124.xml"/><Relationship Id="rId13" Type="http://schemas.openxmlformats.org/officeDocument/2006/relationships/slideLayout" Target="../slideLayouts/slideLayout125.xml"/><Relationship Id="rId14" Type="http://schemas.openxmlformats.org/officeDocument/2006/relationships/slideLayout" Target="../slideLayouts/slideLayout126.xml"/><Relationship Id="rId15" Type="http://schemas.openxmlformats.org/officeDocument/2006/relationships/slideLayout" Target="../slideLayouts/slideLayout127.xml"/><Relationship Id="rId16" Type="http://schemas.openxmlformats.org/officeDocument/2006/relationships/slideLayout" Target="../slideLayouts/slideLayout128.xml"/><Relationship Id="rId17" Type="http://schemas.openxmlformats.org/officeDocument/2006/relationships/slideLayout" Target="../slideLayouts/slideLayout129.xml"/><Relationship Id="rId18" Type="http://schemas.openxmlformats.org/officeDocument/2006/relationships/slideLayout" Target="../slideLayouts/slideLayout130.xml"/><Relationship Id="rId19" Type="http://schemas.openxmlformats.org/officeDocument/2006/relationships/slideLayout" Target="../slideLayouts/slideLayout131.xml"/><Relationship Id="rId20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57.xml"/><Relationship Id="rId10" Type="http://schemas.openxmlformats.org/officeDocument/2006/relationships/slideLayout" Target="../slideLayouts/slideLayout158.xml"/><Relationship Id="rId11" Type="http://schemas.openxmlformats.org/officeDocument/2006/relationships/slideLayout" Target="../slideLayouts/slideLayout159.xml"/><Relationship Id="rId12" Type="http://schemas.openxmlformats.org/officeDocument/2006/relationships/slideLayout" Target="../slideLayouts/slideLayout160.xml"/><Relationship Id="rId13" Type="http://schemas.openxmlformats.org/officeDocument/2006/relationships/slideLayout" Target="../slideLayouts/slideLayout161.xml"/><Relationship Id="rId14" Type="http://schemas.openxmlformats.org/officeDocument/2006/relationships/slideLayout" Target="../slideLayouts/slideLayout162.xml"/><Relationship Id="rId15" Type="http://schemas.openxmlformats.org/officeDocument/2006/relationships/slideLayout" Target="../slideLayouts/slideLayout163.xml"/><Relationship Id="rId16" Type="http://schemas.openxmlformats.org/officeDocument/2006/relationships/slideLayout" Target="../slideLayouts/slideLayout164.xml"/><Relationship Id="rId17" Type="http://schemas.openxmlformats.org/officeDocument/2006/relationships/slideLayout" Target="../slideLayouts/slideLayout165.xml"/><Relationship Id="rId18" Type="http://schemas.openxmlformats.org/officeDocument/2006/relationships/slideLayout" Target="../slideLayouts/slideLayout166.xml"/><Relationship Id="rId19" Type="http://schemas.openxmlformats.org/officeDocument/2006/relationships/slideLayout" Target="../slideLayouts/slideLayout167.xml"/><Relationship Id="rId20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BD81-F62E-448E-B31D-CA6603B6FAB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454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456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457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459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60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461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8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9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0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3014-7515-4093-9211-DBF4BA651361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05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507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08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1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11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12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514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15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517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18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20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21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22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A50A-5CC5-4540-89C7-AB6A973E717A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9"/>
    <p:sldLayoutId id="2147483780" r:id="rId10"/>
    <p:sldLayoutId id="2147483781" r:id="rId11"/>
    <p:sldLayoutId id="2147483782" r:id="rId12"/>
    <p:sldLayoutId id="2147483783" r:id="rId13"/>
    <p:sldLayoutId id="2147483784" r:id="rId14"/>
    <p:sldLayoutId id="2147483785" r:id="rId15"/>
    <p:sldLayoutId id="2147483786" r:id="rId16"/>
    <p:sldLayoutId id="2147483787" r:id="rId17"/>
    <p:sldLayoutId id="2147483788" r:id="rId18"/>
    <p:sldLayoutId id="2147483789" r:id="rId19"/>
    <p:sldLayoutId id="2147483790" r:id="rId20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66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568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69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71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72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73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3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3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3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193D-88B2-4C9D-922D-B2CD8A41FCC0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17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619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20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622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623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24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3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3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3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9643-0193-402E-B040-0891986786D9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668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670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671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673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674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75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677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78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680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81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683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684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85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dt" idx="4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 type="ftr" idx="4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 type="sldNum" idx="4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CF21-8AB8-487D-B422-271BB6C7AEDC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9"/>
    <p:sldLayoutId id="2147483819" r:id="rId10"/>
    <p:sldLayoutId id="2147483820" r:id="rId11"/>
    <p:sldLayoutId id="2147483821" r:id="rId12"/>
    <p:sldLayoutId id="2147483822" r:id="rId13"/>
    <p:sldLayoutId id="2147483823" r:id="rId14"/>
    <p:sldLayoutId id="2147483824" r:id="rId15"/>
    <p:sldLayoutId id="2147483825" r:id="rId16"/>
    <p:sldLayoutId id="2147483826" r:id="rId17"/>
    <p:sldLayoutId id="2147483827" r:id="rId18"/>
    <p:sldLayoutId id="2147483828" r:id="rId19"/>
    <p:sldLayoutId id="2147483829" r:id="rId20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8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729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731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732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734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735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736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4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4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4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3B77-AE54-42E9-9BA5-7DCFADF6C109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48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50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1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3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4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5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50EB-3D5F-4558-90FF-D594EDD57B12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99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101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2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104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105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06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B76A-F582-4E6F-95C3-894DD7FD175A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B389-71D2-4DBA-BE76-8A1A4015DF5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6999-BDD5-4AC8-810A-D86B42D8C54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7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6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7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8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4ACB-BF6F-4478-AE62-02ECA94ECD8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3B8A-708E-4922-B987-71DE5254361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2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DCBA-F5E9-44FB-A906-07BF649F2A1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ftr" idx="2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2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BAB1-97F2-4650-9CB3-5142E7393A5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ftr" idx="2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ОНВЕНЦИЯ О ПРАВАХ РЕБЕНКА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611280" y="1125360"/>
            <a:ext cx="81374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Статья 18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Государства – участники принимают все возможные усилия к тому, чтобы обеспечить признание принципа общей и одинаково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ответственности обоих родителе за воспитание и развитие ребенка. Родители или в соответствующих случаях опекуны несут основную ответственность за воспитание и развитие ребенка. Наилучшие интересы ребенка являются предметом их основной заботы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Статья 28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Государства – участники признают право ребенка на образование, и с целью постепенного достижения этого права на основе равных возможностей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Заголовок 1" descr=""/>
          <p:cNvPicPr/>
          <p:nvPr/>
        </p:nvPicPr>
        <p:blipFill>
          <a:blip r:embed="rId1"/>
          <a:stretch/>
        </p:blipFill>
        <p:spPr>
          <a:xfrm>
            <a:off x="438120" y="920880"/>
            <a:ext cx="8516880" cy="5394240"/>
          </a:xfrm>
          <a:prstGeom prst="rect">
            <a:avLst/>
          </a:prstGeom>
          <a:ln w="0">
            <a:noFill/>
          </a:ln>
        </p:spPr>
      </p:pic>
      <p:sp>
        <p:nvSpPr>
          <p:cNvPr id="805" name=""/>
          <p:cNvSpPr txBox="1"/>
          <p:nvPr/>
        </p:nvSpPr>
        <p:spPr>
          <a:xfrm>
            <a:off x="539280" y="404640"/>
            <a:ext cx="84250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Согласно Закону, Вы имеете право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6" name="Заголовок 1" descr=""/>
          <p:cNvPicPr/>
          <p:nvPr/>
        </p:nvPicPr>
        <p:blipFill>
          <a:blip r:embed="rId1"/>
          <a:stretch/>
        </p:blipFill>
        <p:spPr>
          <a:xfrm>
            <a:off x="725400" y="1231920"/>
            <a:ext cx="7954920" cy="4937040"/>
          </a:xfrm>
          <a:prstGeom prst="rect">
            <a:avLst/>
          </a:prstGeom>
          <a:ln w="0">
            <a:noFill/>
          </a:ln>
        </p:spPr>
      </p:pic>
      <p:sp>
        <p:nvSpPr>
          <p:cNvPr id="807" name=""/>
          <p:cNvSpPr txBox="1"/>
          <p:nvPr/>
        </p:nvSpPr>
        <p:spPr>
          <a:xfrm>
            <a:off x="1143000" y="731880"/>
            <a:ext cx="746136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Согласно Закону Вы имеете право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КОНСТИТУЦИЯ РФ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т. 38 ч.2 Забота о детях, их воспитание – равное право и обязанность родителе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т.43.ч.4 Основное общее образование обязательно. Родители или лица, их заменяющие, обеспечивают получение детьми основного общего образовани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СЕМЕЙНЫЙ КОДЕКС РФ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татья 61 Равенство прав и обязанностей родителе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Родители имеют равные права и несу равные обязанности в отношении своих дете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Родительские права прекращаются  по достижению детьми возраста 18 лет, а также при вступлении несовершеннолетних в брак и в других установленных законом случаях приобретения детьми полной дееспособности до достижения ими совершеннолети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РАВА И ОБЯЗАННОСТИ РОДИТЕЛЕЙ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. 63 Права и обязанности родителей по воспитанию  и образованию дете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одители имеют право и обязаны воспитывать свои детей. Они обязаны заботиться о здоровье, физическом, психическом духовном, нравственном развитии своих дете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одители имеют преимущественное право в воспитании своих детей перед другими лицам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одители  обеспечить  получение детьми основного общего образования и создать условия для получения ими среднего общего образовани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одители с учетом  мнения детей имеют право выбора образовательного учреждения и формы обучения детей до получения ими основного общего образовани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РАВА ОБЯЗАННОСТИ РОДИТЕЛЕЙ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атья 64 Права и обязанности родителе по защите прав и интересов дете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Защита прав и интересов детей возлагается на их родителей. Родители являются законными представителями детей и выступают в защиту их прав и интересов в отношениях с любыми  физическим и и юридическими лицами, в том числе в судах, без специальных полномочий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атья 65. Осуществление родительских прав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Родительские права не могут осуществляться  в противоречии с интересами детей. Обеспечение интересов детей должно предметом  основной заботы родителей. При осуществлении родительских прав родители не должны причинять вред физическому и психическому здоровью детей. Способы воспитания детей должны исключать пренебрежительное, жестокое, грубое, унижающее человеческое достоинство отношение, оскорбление или эксплуатацию детей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ЕМЕЙНО – ПРАВОВАЯ ОТВЕТСТВЕННОСТЬ РОДИТЕЛЕЙ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атья 69 Лишение родительских прав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одители (один из них) могут быть лишены родительских прав если они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Уклоняются от выполнения родительских обязанностей, в том числе при злостном уклонении от уплаты алиментов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Злоупотребляют родительскими правам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Жестоко обращаются с детьми, в том числе применяют физическое и психическое насилие над ними, покушаются на половую неприкосновенность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овершили умышленное преступление против жизни и здоровья детей  или супруг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АДМИНИСТРАТИВНАЯ ОТВЕТСТВЕННОСТЬ РОДИТЕЛЕЙ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атья 5.35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еисполнение или ненадлежащее исполнение родителями или иными законными представителями несовершеннолетних обязанностей по  содержанию, воспитанию, обучению, защите прав и интересов несовершеннолетних – ведет предупреждение или наложение административного штрафа в размере от одного до пяти минимальных размеров оплаты труда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АДМИНИСТРАТИВНАЯ ОТВЕТСТВЕННОСТЬ РОДИТЕЛЕЙ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456840" y="1600200"/>
            <a:ext cx="77151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атья 20.22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явление в состоянии алкогольного опьянения несовершеннолетних, а равно распитие ими алкогольной и спиртосодержащей продукции, потребление ими наркотических средств или психотропных веществ в общественных местах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явление в состоянии алкогольного опьянения в возрасте шестнадцати лет, а равно и распитие ими алкогольной и спиртосодержащей продукции, потребление наркотических средств на улицах, стадионах, скверах,в других общественных местах – влечет наложение административного штрафа на родителей или законных представителей несовершеннолетних в размере от трех до пяти минимальных окладов оплаты труда. Ответственность по данной статье за подростков до 16 лет лежит на родителях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ЗАКОН «ОБ ОБРАЗОВАНИИ В РОССИЙСКОЙ ФЕДЕРАЦИИ</a:t>
            </a: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»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атья 44 Права, обязанности и ответственность в сфере образования родителей (законных представителей) несовершеннолетних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одители(законные представители) обучающихся обязаны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беспечить получение детьми общего образования (согласно закону общее образование является обязательным  до достижения ребенком возраст18 лет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облюдать Правила внутреннего распорядка организации, осуществляющей образовательную деятельность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Уважать честь и достоинство обучающихся и работников организации , осуществляющей образовательную деятельность (права Закон стр. 58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3T08:04:56Z</dcterms:created>
  <dc:creator>школа №5</dc:creator>
  <dc:description/>
  <dc:language>en-US</dc:language>
  <cp:lastModifiedBy>алиса</cp:lastModifiedBy>
  <dcterms:modified xsi:type="dcterms:W3CDTF">2016-11-02T05:43:01Z</dcterms:modified>
  <cp:revision>10</cp:revision>
  <dc:subject/>
  <dc:title>Конвенция о правах ребенка</dc:title>
</cp:coreProperties>
</file>