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7474-A9C6-45D1-8914-5C76650AF4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админитс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5C52-467E-4CDD-A4A3-711549E279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21B-C729-4892-B82D-F6F69E07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DA2-C6E8-4456-BA03-6A4920B4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7A579-8238-4BB6-B29C-DF70ABA8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B94CC9-F0B1-4F6B-8E9F-4D2D03E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2BFD5-6C68-44E1-AFC4-8AC8CC72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3A5B13-E14F-46B7-B547-9218D94E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F295D-269D-48BD-8E25-A896E7D6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E9E6F2-1BE6-4939-9E9E-4BAE9D9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26F28C-1FAE-4E19-819D-93E63A93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D9D3D7-DD10-4408-BB7E-BA85FAF1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5864CF-32EA-4FCB-BD97-37EB6D70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D8150-88CD-498A-8475-AA7EC958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62C-F757-474F-84A3-3A29FCC4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5A188-5361-4DC2-9AFB-5A72C3C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B92E0-A9DA-497B-BF82-B4B36E29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5E931-1833-4D01-BFCC-12EF282D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F5A22-CA8E-4BE6-806F-5C2C998C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48404-A66D-4223-8ABC-24F884A4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7B529-D2F9-4C6D-BBDA-D79599A9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A48C1-579E-4341-A62C-628861CD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C80C1-815B-4D24-BED1-94B41CF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6F25A-40F4-4504-8677-3FAE60EF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D1F90-059A-49F8-BF47-5B92DD08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CE5-F261-4F05-8813-CD238761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EFD8F-43C7-4796-87C3-D3E3CBBA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D9306-0B99-4ADE-9B85-86FA2E3C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F1712-7432-4F0B-8F80-B19A9BA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BF2B3-34C2-4B7D-9504-9BE0A52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4048A-4BEB-4C66-8DC3-765E4686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B9C03-572F-4E8A-9B21-926C167C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4078E-17F5-49BE-8AEF-478FD619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6B560-98F2-4144-AD32-1231649F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E9062-9682-4BC9-B674-1BB8406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6A70B-DBD1-4D54-8729-41AF3DE6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DD69-5857-4CBD-91D3-CA9CCD8C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8E601-C04F-4A50-9084-DFED56CE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A1A8F-539D-442D-A57A-AE550557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49741-9ED5-488E-B9A0-5099EBEE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DF177-B5F2-48F5-8B41-482170F8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05F54-B944-4FC9-8152-D1FC76C3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64A71-99BB-4D05-88D4-76E51319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DF1DD-ED17-4636-BF75-6FD26611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B6716-1A0B-4250-AC30-64570D95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02F06-84B1-40C9-8B17-A92AD2E6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51936-3193-47A6-AF07-9643A6A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6EE9-611A-4A4E-A392-DEFAD349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D65C9-FCAB-48F0-B889-CBC272D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5F1C1-0860-4F6A-A26B-652A6E0D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6BFE7-2FFD-410B-8752-9E596E48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F96C6-2B2E-42FC-8333-240FF76C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640BA-7DEC-4D52-B2D8-06F4E2F6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E6632-361F-4B53-A7CD-37B0887B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8CC3B-FFCF-4988-B11B-630FE11E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4A0C9-57E8-457F-BD94-3D1A89C4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914D5-5FC0-475A-BCE3-AB685A64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65981-D481-43D8-B91E-A5DA25AC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E572-E106-4518-AEA8-D0F3A9D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D5C91-AB70-4B89-9131-2F1875C4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6C4A0-D070-40AE-9474-1B895DD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3077D-A0D6-45B8-8B0C-EE47E854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FBA91-E948-48C9-AAB7-4260ED4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1F2FD-F556-48E9-97AE-0CA4E0A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C1CC8-D740-42AD-A712-195A8FFE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EA234-2B4E-4649-AE58-9C9045AE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AA859-D3B2-4A5A-ADE5-EF963D91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B4167-6882-451D-B235-806B6C19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09304-4189-4C71-ADF8-9F9D14A7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02D9-41C5-4407-9F4F-67DDB237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158F4-D440-4209-A874-5DE9BB14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18900-C8C4-4216-8D43-0302626E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4382B-9A61-42B3-82EA-8270A4E2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99325-5333-42D3-8CC8-DE8F72D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C9D04-4E1C-4D89-987B-A4EB3925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D82FE-2BD6-4422-B3EA-60E183C9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0870A-8A18-4B39-BE79-7D1F19FC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77F21-4A69-4CE2-9FDE-DADE4D00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D6D28-DAFB-42A6-851D-C7B5B217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872ED-61B6-4616-9B5D-989EF909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06D7-5A8A-49EC-BDBD-9E522DDF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F5B66-462C-42CB-AAC8-690EA163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F5536-F6EB-4F4B-884E-694853B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97094-1E96-4D63-8475-2ABA7EF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8FFC8-F26D-488A-8067-7A2AD188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6DDDA-9AD9-49A4-A460-77CE9711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94FF9-1557-4680-A822-C1282C8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E99AD-047A-417E-A080-C779624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A9A1C-4B96-46B6-8438-DAA37C90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E59E4-36A0-4341-9F75-EE177C5F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E4C9D-D194-4915-AEA0-C21CB23E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5FFE-B675-4E77-9035-1B068829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355FB-BD4E-497E-AAC2-9FE7C5FC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B84C-ABDF-4EA6-8801-FBA93FE8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C61-96C1-43C5-B00A-BF7B71A6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5D62-8046-426C-ACA9-5506F2F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008F-BFC1-489C-A251-EFC89D53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2068-2020-42C5-8DE3-B77BD44C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4E49-F1C1-4A25-8E2C-6D5CD24F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285D-8950-4FA5-BA13-E067707D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1165-9C71-40F4-9884-767A1073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59F7-A6E4-4190-9E09-44A2208F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A544-BDE6-4A30-9108-CD06A855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121A-56B4-4034-968A-2AD8CB11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594E-B690-4770-B3A3-B52AE9E4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8E2-EFDA-45B5-93AF-C560F94E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922F-DFC4-4ADA-AFCF-3C3F0AF5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D7E7-1041-4AE7-AF2C-8D245C35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C675-827C-4A76-A1D4-373197E7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82E7-3EB9-4B01-914A-471E0F73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7A4C-2B50-405F-B1A1-3CFC5A9C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C6EF-2BCD-405A-8C99-7EA1206E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C9F4-3E62-487D-8070-2E19664A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0833-F031-4AE2-AF64-134ADBAF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8843F-7153-42AB-8075-4922D096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BA55F-87AF-469B-ACE4-9A9D79E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050-5352-43FB-8F97-3644939B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D520-E350-4578-A111-9B2EB643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6A51-1EC0-40A5-92FB-F7080EE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66BBB-A90A-499E-BB07-2639628D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EDB1-A36A-4AF2-AB16-6CC4FD72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11BF-9407-4A43-B417-BAD9B62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B9C57-2A43-416F-8656-18E3663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365B-0930-46B0-BF4C-0D756A49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5D4CE-5A8E-4482-8C96-9A1F6B74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48A4-256D-4808-B2B1-285DC762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D9884-88D9-4E77-BE1E-1629EB9B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EBF-F267-466A-B8F1-4C6B35E2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0F1DC-1C4C-4185-B6EA-64184849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58C7B-9E9E-4451-B7CD-907816A4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F4175-16D8-4B55-96FA-C918A4C6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B35A2-989D-46BA-A6F8-472A80A7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5F70C-F809-40C3-A188-C3BBA50C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14024-53B7-48F1-B35C-DD3FBF0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06DAE-49EF-4C4F-AC3E-A903203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25F21-511C-485D-BEE2-8433B68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1194F-BD2C-4536-AC10-839105B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F3370-2482-4C3A-B5EB-DFCE765C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95B-5C97-4824-A2D0-2F7412F8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6470E-D89F-49B3-826C-1D64D809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B125E-8029-4FBC-A93D-1B0AA532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FEC18-2BC7-463A-ACB1-BD28D914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9EFC-136A-4698-BAF3-9EABDA1C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7E24A-F52F-4702-949A-C9A643A5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96C56-4BAC-41AD-942E-42D7615F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FF7F-517C-4CA2-B45A-17A53258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873C-BA47-4605-B44C-D69E685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DA975-383B-4211-8914-AAC1F1D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AB8EF-EFAC-4A84-8003-79ED551D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46E-0AAE-409E-B3D0-514D713A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A3B5D-3E77-42B0-B7CE-E5F89408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BD35-5FA6-495D-A193-7EBD1D4D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F9CB-373D-451E-BE84-C81E0BE4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140EC-A95D-4FBC-A788-6BE718ED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CABE7-D5CC-4D86-A732-D89FC497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490DB-2FF7-4AA4-AE6F-4225AFBB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58D66-61E0-4E01-90DF-D3C324A5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B6876-AEFF-4FE5-BBC3-6E317FE1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DD2E2-6DC1-4D82-9DCA-1B2A5DB1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26791-FD2B-4492-B6D9-4CE75BC7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F76-D528-422A-A093-966B4E8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3511C-7641-4CF8-BB16-8E3273AC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BA0F9-3861-482C-817D-32E4ED91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7912D-ABA8-4C03-9EA4-4D2938D3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62917-1CE1-4531-82E9-D5C8872A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D94F8-836A-4B73-A85A-E924A8BD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2A89A-77A3-4DA3-B823-776DCA0B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60295C-0E94-4949-A294-366B88F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6D9177-236C-4676-9326-F5E6ECBB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ACAE1E-629F-4AA0-B298-A54E66C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225C2-470E-413D-96DB-DAEC17A8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7F3-9A2D-4937-8904-27D12494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EBF238-A915-45F0-8BD5-F05D5946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CA41E-F77E-459E-BE8E-84D2868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02604A-8E66-43D2-925F-46B6831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1DEE8-5A74-42B3-8699-A545513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3D8FE3-BB6C-4EF2-9923-EC59284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CF5027-B667-48DD-9BB9-DD9E3F92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6E7B4-CF7D-4D9D-A235-127F9E5E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A1DFDC-8BE2-4A14-B84B-64B7C5E4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14FD4-CC94-41C1-9813-BFA69BCD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5C84EA-C6FE-4772-85D8-2703D8E1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5CC3-393B-407D-A999-5EBFF1A877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5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5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F0E1-A3CE-4FE2-82FF-6E2D6CEF778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1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22CA-6360-4077-AB73-189313844D1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6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6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6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AE1E-EAF0-448F-BFB6-4FBBE1F2389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A928-5D87-4CEF-B48D-A187FA323CE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34ED-442C-4CFE-BB9B-04632C46871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7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95D-9B3C-4AAF-B741-3B500ED5AF7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2010-31F4-4EFE-BD0E-065572259DA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0067-D0E5-42EA-96F3-EC4D581F9C1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781E-C3C6-456C-B85E-AEFD78CF6B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FDBD-BD2F-4DF6-AAEC-E5F89201EF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9AC4-3358-4C4D-96F5-4D1735EEC2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137C-4D88-42DF-9386-A174561FCD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C375-92CB-4095-BEFC-EC7938BEF98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BE4F-504A-41D8-B365-24ECFBDB09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ВЕНЦИЯ О ПРАВАХ РЕБЕНК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нимают все возможные усилия к тому, чтобы обеспечить признание принципа общей и одинаков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тветственности обоих родителе за воспитание и развитие ребенка. Родители или в соответствующих случаях опекуны несут основную ответственность за воспитание и развитие ребенка. Наилучшие интересы ребенка являются предметом их основной з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2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знают право ребенка на образование, и с целью постепенного достижения этого права на основе равных возможносте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Заголовок 1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8516880" cy="53942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539280" y="404640"/>
            <a:ext cx="842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гласно Закону, Вы имеете прав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725400" y="1231920"/>
            <a:ext cx="7954920" cy="49370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143000" y="731880"/>
            <a:ext cx="74613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Закону Вы имеет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ОНСТИТУЦИЯ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 38 ч.2 Забота о детях, их воспитание – равное право и обязанность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43.ч.4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тья 61 Равенство прав и обязанностей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и имеют равные права и несу равные обязанности в отношении сво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ьские права прекращаются  по достижению детьми возраста 18 лет, а также при вступлении несовершеннолетних в брак и в других установленных законом случаях приобретения детьми полной дееспособности до достижения ими совершеннолет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И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. 63 Права и обязанности родителей по воспитанию  и образованию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аво и обязаны воспитывать свои детей. Они обязаны заботиться о здоровье, физическом, психическом духовном, нравственном развитии сво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еимущественное право в воспитании своих детей перед другими лиц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 обеспечить  получение детьми основного общего образования и создать условия для получения им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с учетом  мнения детей имеют право выбора образовательного учреждения и формы обучения детей до получения и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4 Права и обязанности родителе по защите прав и интересов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щита прав и интересов детей возлагается на их родителей. Родители являются законными представителями детей и выступают в защиту их прав и интересов в отношениях с любыми  физическим и и юридическими лицами, в том числе в судах, без специальных полномочи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5. Осуществление родительских пра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одительские права не могут осуществляться  в противоречии с интересами детей. Обеспечение интересов детей должно предметом  основной заботы родителей. При осуществлении родительских прав родители не должны причинять вред физическому и психическому здоровью детей. Способы воспитания детей должны исключать пренебрежительное, жестокое, грубое, унижающее человеческое достоинство отношение, оскорбление или эксплуатацию де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О – ПРАВОВ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9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(один из них) могут быть лишены родительских прав если о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лоняются от выполнения родительских обязанностей, в том числе при злостном уклонении от уплаты алимен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лоупотребляют родительскими пра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стоко обращаются с детьми, в том числе применяют физическое и психическое насилие над ними, покушаются на половую неприкосновен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или умышленное преступление против жизни и здоровья детей  или супру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5.3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 содержанию, воспитанию, обучению, защите прав и интересов несовершеннолетних – ведет предупреждение или наложение административного штрафа в размере от одного до пяти минимальных размеров оплаты тр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20.2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несовершеннолетних, а равно распитие ими алкогольной и спиртосодержащей продукции, потребление ими наркотических средств или психотропных веществ в общественных мест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в возрасте шестнадцати лет, а равно и распитие ими алкогольной и спиртосодержащей продукции, потребление наркотических средств на улицах, стадионах, скверах,в других общественных местах – влечет наложение административного штрафа на родителей или законных представителей несовершеннолетних в размере от трех до пяти минимальных окладов оплаты труда. Ответственность по данной статье за подростков до 16 лет лежит на родителя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ОН «ОБ ОБРАЗОВАНИИ В РОССИЙСКОЙ ФЕДЕРА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44 Права, обязанности и ответственность в сфере образования родителей (законных представителей)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(законные представители) обучающихся обяза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ить получение детьми общего образования (согласно закону общее образование является обязательным  до достижения ребенком возраст18 ле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людать Правила внутреннего распорядка организации, осуществляющей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важать честь и достоинство обучающихся и работников организации , осуществляющей образовательную деятельность (права Закон стр. 58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04:56Z</dcterms:created>
  <dc:creator>школа №5</dc:creator>
  <dc:description/>
  <dc:language>en-US</dc:language>
  <cp:lastModifiedBy>алиса</cp:lastModifiedBy>
  <dcterms:modified xsi:type="dcterms:W3CDTF">2016-11-02T05:43:01Z</dcterms:modified>
  <cp:revision>10</cp:revision>
  <dc:subject/>
  <dc:title>Конвенция о правах ребенка</dc:title>
</cp:coreProperties>
</file>